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9.jpeg" ContentType="image/jpeg"/>
  <Override PartName="/ppt/media/image33.wmf" ContentType="image/x-wmf"/>
  <Override PartName="/ppt/media/image12.png" ContentType="image/png"/>
  <Override PartName="/ppt/media/image31.png" ContentType="image/png"/>
  <Override PartName="/ppt/media/image34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0.png" ContentType="image/png"/>
  <Override PartName="/ppt/media/image3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7209-6FCB-4110-A163-77FFF2E55F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5B3-A985-485C-B836-136F637CA4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414-2E22-4D18-AB07-ECBD095ED7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372-CBD3-4CD2-A8C6-E8718120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B7F-1044-4005-9854-BDC144FE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AD7-8F69-41DA-A159-ADAEF0ED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493-ACDD-4F61-8429-C8551C51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9AF4-2AD0-4D9D-BF94-B500F9D6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1A3-E7B8-467A-8862-CD4D2F19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413-538E-4CF2-9DC6-642ECA2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5888-8DC3-4E6D-8A12-AFB4F53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A1A-711E-4AD5-98CC-5144BC14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9A22-BA46-4073-BA15-51E5CFE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BDEA-9FB4-4FBD-9829-FDB6F5E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E67-6545-4B0A-AA5E-4C73A66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C22F-6E19-4EDE-AFD6-FCC8408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02F-2C77-4C20-B52A-FFB7995E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EFAE-F05A-4A1F-BFFF-B801C98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604-522F-4E36-80F3-773EC7A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D82-73C8-424E-8157-1637A6EC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046-E2EA-438C-BC13-6581790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7AF-C48E-44D7-92C9-38E51CF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F8C-DA04-440D-A0EB-5FE89FC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25C-C82D-45D2-80B5-AB69F60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04-20CB-45F3-9DB0-A2A7923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82B-DB39-4BBB-9E18-CEB268A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80A-87C0-4440-BD77-D389FE2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F8FD-6609-4128-949B-C543364A85E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3A6-A619-48AF-B364-BBC2667D077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542880" y="0"/>
            <a:ext cx="8229600" cy="920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0" y="938160"/>
            <a:ext cx="2722680" cy="2722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5183280" y="3813120"/>
            <a:ext cx="3960720" cy="3044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7032600" y="938160"/>
            <a:ext cx="2111400" cy="2874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"/>
          <p:cNvPicPr/>
          <p:nvPr/>
        </p:nvPicPr>
        <p:blipFill>
          <a:blip r:embed="rId5"/>
          <a:stretch/>
        </p:blipFill>
        <p:spPr>
          <a:xfrm>
            <a:off x="4237200" y="938160"/>
            <a:ext cx="27954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"/>
          <p:cNvPicPr/>
          <p:nvPr/>
        </p:nvPicPr>
        <p:blipFill>
          <a:blip r:embed="rId6"/>
          <a:stretch/>
        </p:blipFill>
        <p:spPr>
          <a:xfrm>
            <a:off x="2532240" y="938160"/>
            <a:ext cx="2450880" cy="3094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7"/>
          <a:stretch/>
        </p:blipFill>
        <p:spPr>
          <a:xfrm>
            <a:off x="19080" y="3551400"/>
            <a:ext cx="51642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5"/>
          <p:cNvPicPr/>
          <p:nvPr/>
        </p:nvPicPr>
        <p:blipFill>
          <a:blip r:embed="rId2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126440" y="165564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Биологическо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876640" y="16779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bb0"/>
                </a:solidFill>
                <a:latin typeface="Times New Roman"/>
              </a:rPr>
              <a:t>Хозяйственно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71280" y="2138400"/>
            <a:ext cx="4537080" cy="3738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-Размножение растений в случае повреждения значительной части растения (пожары, вырубки и пр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-Возможность размножения цветковых растений при отсутствии факторов перекрестного опыления - ветра, насеком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4716360" y="2143080"/>
            <a:ext cx="4427640" cy="3738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-Возможность быстрого воспроизводства двулетних и многолетни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-Необходимость сохранения наследственных признаков сор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-Возможность сочетания полезных признаков нескольких растений в од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03120" y="1052640"/>
            <a:ext cx="874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Вегетативное размножение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это отделение______________ тела от ______________ растения и развития из него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организ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Участвует____________родите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Образующиеся__________________организмы по своим свойств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3d75"/>
                </a:solidFill>
                <a:latin typeface="Times New Roman"/>
              </a:rPr>
              <a:t>___________________с__________________раст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674440" y="1484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133680" y="148428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матери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496680" y="3267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дочер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686120" y="194616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самостоятель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41800" y="28065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о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03932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одинак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468680" y="40053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3d75"/>
                </a:solidFill>
                <a:latin typeface="Times New Roman"/>
              </a:rPr>
              <a:t>материнск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785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5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103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.21, читать и отвечать на вопросы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желанию : приготовить рассказ о том, какие способы вегетативного размножения ваша семья использует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24000" y="85392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3ea9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3ea9"/>
                </a:solidFill>
                <a:latin typeface="Times New Roman"/>
              </a:rPr>
              <a:t>«Способы размножения растений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98064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91520" indent="-143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крыть сущность понятия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191520" indent="-143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ширить представления о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191520" indent="-143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учиться выделять … размножения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191520" indent="-143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вывод о влиянии этого условия на прорастание семян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вестно, что для прорастания семян необходимы определённые условия. Алёна решила выяснить роль одного из таких условий, проведя следующий опыт. Она взяла два одинаковых стакана, положила в каждый из них по влажной тряпочке и насыпала одинаковое количество семян гороха. Один из стаканов она оставила на столе в углу класса, а другой поставила на освещённый подоконник в этом же классе. Вскоре она обнаружила, что в обоих стаканах семена начали одновременно прорастать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72615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6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740800" cy="70812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7"/>
          <p:cNvPicPr/>
          <p:nvPr/>
        </p:nvPicPr>
        <p:blipFill>
          <a:blip r:embed="rId2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0"/>
            <a:ext cx="872316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Прямоугольник 12"/>
          <p:cNvSpPr/>
          <p:nvPr/>
        </p:nvSpPr>
        <p:spPr>
          <a:xfrm>
            <a:off x="142920" y="3143160"/>
            <a:ext cx="47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корень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4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очвы , уплотнить её.            сразу же высадить в открытый  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426960"/>
            <a:ext cx="8645400" cy="706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1"/>
          <p:cNvSpPr/>
          <p:nvPr/>
        </p:nvSpPr>
        <p:spPr>
          <a:xfrm>
            <a:off x="4500720" y="2060640"/>
            <a:ext cx="4427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2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967960" cy="7063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Anastasia Lavrenova</cp:lastModifiedBy>
  <dcterms:modified xsi:type="dcterms:W3CDTF">2020-02-04T00:39:25Z</dcterms:modified>
  <cp:revision>142</cp:revision>
  <dc:subject/>
  <dc:title>Слайд 1</dc:title>
</cp:coreProperties>
</file>